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НТЕГРИСАНЕ АКАДЕМСКЕ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УДИЈЕ ФАРМ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9280" y="2565360"/>
            <a:ext cx="878544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ВОД У ФАРМАЦЕУТСКУ ТЕХНОЛОГИЈ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давањ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чне лековите емулзије за спољашњу и унутрашњу употребу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тинентална мет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шање емулгатора и фазе у којој је не раство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се суспендује у унутрашњој фа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рапска гума, трагака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тју емулзије типа У/В након настајања примарне емулзије и постепеног додавања спољашње фа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нглеска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мулгатор се раствори у спољашњој фа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танком млазу се додаје унутрашња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мулзиона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а се језгро емулзије тако што се наизменично додају унутрашња и спољашња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0560" y="1125000"/>
            <a:ext cx="84358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арати за припрему емул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чно мешање у апоте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индустрији – механичке мешалице – пропелерске, турбинске, планетар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могенизатори – великом снагом мешају те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о су цилиндричног облика онда увлаче смешу у цилиндар који има ситне отворе и кроз које смеша изла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шање ултразву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оидни млин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mulsio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nis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leosae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 1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ај препарат је официналан по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ug II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а пропис такође наводе и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Магистралне формуле 2008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пропис за препарат суспензије у чији састав улази уљана емулзиј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eum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ummi arabicum (I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qua purificat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d   1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љана емулзија се свежа припрема у апотеци, пошто улази у састав других рецеп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рад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0 грама уља се у сувом порцеланском тарионику помеша са прахом арапске гу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тим се брзо измеша са 7,5 грама воде (половина од укупног збира емулгатора и уљ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к се не чује пуцкетање и добије хомогена глатка млечно бела примарна емул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коју додајемо преосталу количину во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ико је потребно у тако припремљену емулзију додаје се лековита супста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сипа у медицинску боц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842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давање и сигнату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издаје се у бочици са белом сигнатуром и обавезном напоменом „Пре употребе промућкати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потреб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хикулум за лековите сусптанце тј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ставни део других пре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39280" y="1052280"/>
            <a:ext cx="8147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лучврсти препарати за примену на кожу спадају у препарате за спољашњу употребу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Ph Jug. V - намењени за апликацију на кожу или одређену слузокожу у циљу остваривања локалног деловања или перкутане пенетрације лековите супстанце или ради емолијентног и заштитног деловањ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стоје се из једноставних или сложених подлога у којима је једна или више супстанци растворена или суспендован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длоге од природних или синтетских супстанци,  једнофазни или вишефазни системи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95280" y="1268280"/>
            <a:ext cx="82915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рода подлоге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идрофилна или липофилн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моћне материје: емулгатори, конзерванси, антиоксиданси, материје за подешавање вискозитета и др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 зависности од врсте подлоге разликују с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кремов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ма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гелови 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пас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4920" y="1268280"/>
            <a:ext cx="8280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лога за кремове је вишефазна тј. састоји се од водене и уљане фазе и обавезно је присуство емулгатора који омогућава да ове две фазе буду дисперговане (распршене) једна у другој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мулгатор у највећој мери омогућава стабилност кремова током чувања, транспорта и употребе препа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4920" y="126792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лога за масти је једнофазна тј. састоји се од уљане фазе у којој су честице лековите супстанце суспендоване, растворене или емулгован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сти обично не садрже емулгаторе и сматрају се једнофазним системима, али постоје супстанце које чине масну фазу, а у себи садрже састојак који може да емулгује воду (на пр. ланолин садржи холестерол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94920" y="119700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елови су обично једнофазни системи, јер су по свом саставу течности гелиране одговарајућом супстанцом која се назива гелирајуће средств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ковита супстанца у гелу може бити растворена, ређе диспергова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сте су концентроване суспензије код којих је садржај чврстих прашкастих материја висок (30-70%). Прашкасте супстанце су фино уситњене, просејане и суспендоване у липофилној подлози која не садржи воду, најчешће мешавине вазелина, ланолина и уља. Могу бити тврде и меке. Тврде пасте имају већи удео чврсте прашкасте материје, користе се код масне коже и делују исушујуће. Меке пасте имају мањи удео чврсте прашкасте материје и користе се код суве коже и благо је замашћуј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32000" y="-360"/>
            <a:ext cx="3384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ЕМУЛЗ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исперзни систе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астоје се од две течности које се не могу растворити једна у другој јер се не меша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смеши се налазе тако што је једна течност диспергована у друг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у виду ситних кап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ковита супстанца је растворена у једној од ф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мулзије се могу користити и за спољашњу и за унутрашњу употреб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дна фаза је увек хидрофилна тј. састоји се од воде  и водених раствора који се са водом меша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руга фаза је липофилна тј. састоји се од уља, масти, воскова или уљаних раств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4000" y="119700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мулзије  - две фазе које се не мешају једна у другој - водене и уљане фазе и емулгат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мулгатори омогућавају да водена  и уљана фаза буду дисперговане једна у другој и стабилизују емул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хемијском саставу су разнородна једињења. У фармацеутским и козметичким емулзијама у употреби су површински активне материје, полимери, хидрофилни колоиди или комбинације ових супстанци (као емулгатори могу да служе и друге супстанце чије главно својство није површинска активност, већ то могу бити и полимери и фино уситњене честице које добро стабилишу емулзије захваљујући способости да се добро распореде око капи унутрашње фаз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ебна карактеристика емулгатора је ХЛБ вредност (Hydrophile-Lipophile balance) и позната је за површински активне материје. Она говори о растворљивости сурфактанта и колики је удео у његовом молекулу хидрофилних, а колики липофилних дел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ЛБ вредност је дата на скали од 0-20 и сурфактанти који се растварају у уљаној фази имају ХЛБ до 10, док они који се растварају или диспергују у води имају ХЛБ од 10 до 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95280" y="119700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рфактанти могу показивати и друга својства осим емулговања, а у зависности од хемијске структуре могу би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нјонс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тјонс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мфотер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јонски сурфакта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нјонски сурфактанти дисосују у воденим растворима, па емулгујуће дејство остварује анјон. Најпознатији с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алкални натријумови, калијумови, амонијумови сапуни (пр. натријум-стеарат, натријум олеа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метални сапуни – соли вишевалентних метала и масних киселина (калцијум палмитат, алуминијум стеара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естри масних алкохола и сумпорне киселине (натријум лаурилсулфат, натријум цетилсулфат, натријум стеарил сулфа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карбомер (синтетски карбокси винил анјонски полимер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арапска гума (смеша калцијумових, магнезијумових и калијумових соли полиарабинске киселин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165320"/>
            <a:ext cx="82915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тјонски сурфактанти се користе више као дезинфекциона средства и конзерванси (пр. бензалконијум хлорид, цетримид, цетилпиримидијум хлорид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мфотерни емулгатори се у киселим растворима понашају као катјонски, а у базним као анјонски емулгатори. По структури су протеини и лецитин. Од протеина се користе у фармацији желатин, казеин, обрано млеко у праху. Лецитин је најчешће пореклом из сој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50560" y="1268280"/>
            <a:ext cx="84358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јонски емулгатори не дисосују на јоне и реагују неутрално у воденој средин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јстарији је у употреби жути пчелињи восак, а од синтетских то су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масни алкохоли (цетил алкохол, стеарил алкохол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стероли (холестеро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парцијални естри масних киселина и полихидроксилних алкохола (глицерилмоностеарат, глицерилмоноолеа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парцијални естри масних киселина и сорбитана познати под комерцијални именом Span® (сорбитан монолаурат, сорбитан моностеара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парцијални естри масних киселина и полиоксиетилованог сорбитана познатих под комерцијалним називом Tween® (полисорбат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полиоксиетиловани естри масних киселина (макроголи естр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иоксиетиловани етри масних алкохола (полиоксил етри или макроголни етри) који се добијају из етиленоксида и виших масних алкохо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три сахарозе и масних киселина тзв. шећерни “естри” (сахароза дистеарат, сахароза монолаура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907560"/>
            <a:ext cx="91440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мулзије могу бити типа уље у води (У/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ода у уљу (В/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шовитог типа вода/уље/вода (В/У/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ље/вода/уље(У/В/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зависности од тога која је фаза диспергована у којој и да ли је реч о двофазним или трофазним емулзија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1583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чешће се магистрално припремају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вофазне емулзије уље у води и вода у уљ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спергована фаза још назива и 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унутрашњ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ли дисконтинуирана, а дисперзионо средство 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спољашњ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ли континуирана фа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колико је емулзија типа уље у води, уље је унутрашња фаза диспергована у води која је спољашња фаза и обрну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987640" y="189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ЕМУЛ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98100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лечно беле боје – течности из којих се састоје имају различит индекс преламања свет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личина 0,1-100 микромет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сна фаза је до 6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кроемулзије – дисперговане капи имају 1-20 микромет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перговане капљице 0,1-0,5 микромет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нспаренте или бист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052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рмодинамички нестабилни систе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дају им се емулгатори као средства за стабилизаци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ањују површински напон на додирној површини између две течне фа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жељно је да се налази у што мањој концентрациј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мулгатор гради филм око дисперговане капи и на тај начин ствара баријеру за спајање диспергованих кап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ј филм може бити моно или мулти молекулар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гу бити природни или синтет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ки се примењују само за спољашњу употребу јер имају укус и нису индиферент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1052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рада емул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а суспендовања – континетнална метода – магистрална изр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а растварања – енглеска метода – у индустриј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мулзиона ме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рад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дицинских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мулзија је континенталном методом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Jug IV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тарионику пистил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 део емулгатора брзо и кратко помеша са 2 дела уљ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тим се дода 1,5 део вод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ша док се не створи примарна емулзија, чије је настајање везано за појаву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карактеристичног пуцкетањ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епено се додаје преостала количина воде и хомогенизу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опходно 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 тарионик буде сув и храпавих зид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 прва количина воде која се додаје да буде ½ количине уљане фазе и емулгатора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 додавање компоненти буде брз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 мешање буде енергично и брзо да би настала примарна емулзија (у случају да је потребно додавање наквашеног емулгатора, дуго мешање може да доведе до растварања и неће обавити функцију емулгато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атак воде се додаје у порцијама  којом се само разблажује примарна емулз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System ® SP2</cp:lastModifiedBy>
  <dcterms:modified xsi:type="dcterms:W3CDTF">2018-01-09T10:54:28Z</dcterms:modified>
  <cp:revision>34</cp:revision>
  <dc:subject/>
  <dc:title>Slide 1</dc:title>
</cp:coreProperties>
</file>